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811-2222-46A9-8361-A422B6EA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9CE-1138-4E7B-8EE6-5D25DE9F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8AC-97DA-427B-B6CB-0FBC88F5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D4B-0B47-453C-A874-7D6EC027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527-4730-4E29-B5EE-C5AE1A26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65F-9944-4549-ABC0-3159BE64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4A1-30A4-406F-81B8-3CAE1A29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232-6B89-4810-BF80-D1CF6581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696-9AEF-44D7-AA25-875FDC3F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990-1A7D-43F2-85D4-9115A800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4EA-81B1-4D9C-BBB5-36FFC03C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7EE-22D8-4EBE-B1F9-65B9623E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650E-977A-410F-9307-632DD06C429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2360" y="1179360"/>
            <a:ext cx="86392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2200" y="1844640"/>
            <a:ext cx="857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64960" y="1557360"/>
            <a:ext cx="8666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إسراء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ذكرت حادثة الإسراء بالنبي صلى الله عليه وسلم من المسجد الحرام إلى المسجد الأقص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99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سراء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قص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14200" y="2421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ر ب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5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الرسول صلى الله عليه وسلم في قصة الإس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شيء من الواجبات والمنهيات في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د على المشرك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قدرة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cxnSp>
        <p:nvCxnSpPr>
          <p:cNvPr id="67" name="رابط كسهم مستقيم 27"/>
          <p:cNvCxnSpPr/>
          <p:nvPr/>
        </p:nvCxnSpPr>
        <p:spPr>
          <a:xfrm flipH="1">
            <a:off x="8456040" y="4198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50920" y="3965400"/>
            <a:ext cx="820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تعنت الكفار مع النبي صلى الله عليه وسلم وتوجيه الرسول صلى الله عليه وسلم إلى كيفية الرد علي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0920" y="1467000"/>
            <a:ext cx="86421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42:56Z</dcterms:modified>
  <cp:revision>1827</cp:revision>
  <dc:subject/>
  <dc:title>عرض تقديمي في PowerPoint</dc:title>
</cp:coreProperties>
</file>